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6BA-56DF-4580-9A5E-DE8F82C8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BD1-6795-4695-A0D4-93858353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F31A-4E23-443C-81F3-4D21CCB1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BF5-87A8-4E4F-82CA-5A9F4315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8B7-326A-48F5-983A-DDC3F41A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72D-12C0-4D14-ADF7-20655608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0FF-FCA4-4AEA-ABB1-3027101C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E2C-ED41-46D4-9DAB-C7B49C23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B7E-B423-4355-989A-DB4BC367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27C-E665-45A4-802F-0C98ED14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B24-8475-4076-A407-5AADCFFC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587-BC0E-42A3-9B5E-6E25D7C4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D08B-E09C-4972-8D1C-DFA2CC032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6984720" cy="4911120"/>
        </p:xfrm>
        <a:graphic>
          <a:graphicData uri="http://schemas.openxmlformats.org/drawingml/2006/table">
            <a:tbl>
              <a:tblPr/>
              <a:tblGrid>
                <a:gridCol w="1164240"/>
                <a:gridCol w="1164240"/>
                <a:gridCol w="1163880"/>
                <a:gridCol w="1163880"/>
                <a:gridCol w="1164240"/>
                <a:gridCol w="1164240"/>
              </a:tblGrid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a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O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>
                        <a:alpha val="9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T M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2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D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a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>
                        <a:alpha val="9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2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ER-VIL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a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>
                        <a:alpha val="9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O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GHI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a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DR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>
                        <a:alpha val="9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3:22:20Z</dcterms:created>
  <dc:creator>Dolmen</dc:creator>
  <dc:description/>
  <dc:language>en-US</dc:language>
  <cp:lastModifiedBy>Dolmen</cp:lastModifiedBy>
  <dcterms:modified xsi:type="dcterms:W3CDTF">2008-09-03T13:31:27Z</dcterms:modified>
  <cp:revision>3</cp:revision>
  <dc:subject/>
  <dc:title>Lysbilde 1</dc:title>
</cp:coreProperties>
</file>